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357-D9B2-4299-BF6E-A0E3BF2B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22D-BF3A-419C-B37E-814B7279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DEFD-CAFD-4B27-9317-6D1824C4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B89-123F-4C6A-9E11-F185C53F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E031-82B3-4E0A-933E-3EDD3C6C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081-4CA7-4052-BDF0-D87A979A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FB2C-CA4B-4249-9F3C-9CAFA04E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922A-5A04-47B4-A7E5-94DED108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3328-6AB7-4327-9935-F717653A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578D-AF0E-49F9-98BA-BB2EB760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3EC-9F73-4752-9A3E-39FE2343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7F31-C3D8-4EC4-88BD-1E07C352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DD48-B531-40C6-BB32-F8BE311FD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979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59280" y="1771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R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2560" y="50115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GUIA DESPACH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2563920"/>
            <a:ext cx="216036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RIMIR Y ENVI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335592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PCION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rot="16200000">
            <a:off x="4031640" y="16635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2"/>
            <a:endCxn id="45" idx="0"/>
          </p:cNvCxnSpPr>
          <p:nvPr/>
        </p:nvCxnSpPr>
        <p:spPr>
          <a:xfrm rot="16200000">
            <a:off x="4031280" y="32479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2"/>
            <a:endCxn id="44" idx="0"/>
          </p:cNvCxnSpPr>
          <p:nvPr/>
        </p:nvCxnSpPr>
        <p:spPr>
          <a:xfrm rot="16200000">
            <a:off x="4031280" y="24559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3059280" y="5011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FACTUR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35640" y="50115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BOLETA HONORARIO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5" idx="2"/>
            <a:endCxn id="43" idx="0"/>
          </p:cNvCxnSpPr>
          <p:nvPr/>
        </p:nvCxnSpPr>
        <p:spPr>
          <a:xfrm rot="5400000">
            <a:off x="2411280" y="3283920"/>
            <a:ext cx="1079640" cy="23767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5" idx="2"/>
            <a:endCxn id="49" idx="0"/>
          </p:cNvCxnSpPr>
          <p:nvPr/>
        </p:nvCxnSpPr>
        <p:spPr>
          <a:xfrm rot="16200000">
            <a:off x="3599640" y="4471920"/>
            <a:ext cx="10796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50" idx="0"/>
          </p:cNvCxnSpPr>
          <p:nvPr/>
        </p:nvCxnSpPr>
        <p:spPr>
          <a:xfrm flipH="1" rot="16200000">
            <a:off x="4788000" y="3283560"/>
            <a:ext cx="1079640" cy="23770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1" idx="0"/>
          </p:cNvCxnSpPr>
          <p:nvPr/>
        </p:nvCxnSpPr>
        <p:spPr>
          <a:xfrm rot="5400000">
            <a:off x="3960000" y="799560"/>
            <a:ext cx="359640" cy="1440"/>
          </a:xfrm>
          <a:prstGeom prst="bentConnector3">
            <a:avLst>
              <a:gd name="adj1" fmla="val 181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059280" y="587700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LETA HONOR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9" idx="2"/>
            <a:endCxn id="55" idx="0"/>
          </p:cNvCxnSpPr>
          <p:nvPr/>
        </p:nvCxnSpPr>
        <p:spPr>
          <a:xfrm rot="16200000">
            <a:off x="399492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0" idx="2"/>
            <a:endCxn id="56" idx="0"/>
          </p:cNvCxnSpPr>
          <p:nvPr/>
        </p:nvCxnSpPr>
        <p:spPr>
          <a:xfrm rot="16200000">
            <a:off x="637164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6299280" y="3716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 RECEPCIÓ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ISTENCIAS VS DOCTOS X 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99280" y="2995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GRESO INVENTARI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TARJETA EX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45" idx="3"/>
            <a:endCxn id="59" idx="1"/>
          </p:cNvCxnSpPr>
          <p:nvPr/>
        </p:nvCxnSpPr>
        <p:spPr>
          <a:xfrm>
            <a:off x="5219640" y="3643920"/>
            <a:ext cx="1080000" cy="360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5" idx="3"/>
            <a:endCxn id="60" idx="1"/>
          </p:cNvCxnSpPr>
          <p:nvPr/>
        </p:nvCxnSpPr>
        <p:spPr>
          <a:xfrm flipV="1">
            <a:off x="5219640" y="3283560"/>
            <a:ext cx="1080000" cy="360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68256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IAS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43" idx="2"/>
            <a:endCxn id="63" idx="0"/>
          </p:cNvCxnSpPr>
          <p:nvPr/>
        </p:nvCxnSpPr>
        <p:spPr>
          <a:xfrm rot="16200000">
            <a:off x="161856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962520" y="4292640"/>
            <a:ext cx="360360" cy="3603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333360"/>
            <a:ext cx="295272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53737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53737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35640" y="537372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406404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00720" y="334476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476280"/>
            <a:ext cx="165564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979560"/>
            <a:ext cx="165564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5440" y="1206360"/>
            <a:ext cx="109440" cy="135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60280"/>
            <a:ext cx="1655640" cy="1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B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4-19T05:39:22Z</dcterms:modified>
  <cp:revision>19</cp:revision>
  <dc:subject/>
  <dc:title>Diapositiva 1</dc:title>
</cp:coreProperties>
</file>